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66B-D0BF-427D-9BF9-1E657196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03A-E902-4FFA-8D61-F49F242D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0FC-49C9-4B23-A1CA-1C6C9B14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CB0-28CB-4539-9F13-AD395D91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4156-8DAE-422A-AE8E-D9F30281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7DDB-E63B-4AAE-A3FA-FEE24656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0625-2715-4948-ADC6-1145B4D7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2413-77A7-4E4B-BB22-6C398904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AEB6-8008-4E11-B67A-5A41BEB5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F132-14B5-4EDA-B5FE-223CB35D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91EC-DA2E-480F-9C0D-3CDCD216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0A3-16C3-411C-A7CF-15ABDAED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58E0-039F-4892-B54F-DAA393E2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F359-0E49-4195-A34A-CF42B0E4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25B8-1837-494E-9446-D7E50A29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CCF4-6FB0-44D7-8A58-C5E9D68A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9892-07FB-45D4-96EF-180663BD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D84-A69C-4CBA-A2F9-6879D518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15F-49CE-4C84-8BAD-75BA2950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368-176C-47D7-8D64-1C4AA374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0CC-E10A-49CE-A1AE-4C0A6078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863-1733-4BE8-9107-9501EBF6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95B-0ECC-4439-A7C9-9F216EF7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088-D1DC-4DE0-90A4-1E9DCFF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445B-8901-499E-9B63-8CA067E145DC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pic>
        <p:nvPicPr>
          <p:cNvPr id="5" name="gif2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隶书"/>
                <a:ea typeface="隶书"/>
              </a:rPr>
              <a:t>SQL Server 2000</a:t>
            </a:r>
            <a:r>
              <a:rPr b="1" lang="zh-CN" sz="1800" spc="-1" strike="noStrike">
                <a:solidFill>
                  <a:srgbClr val="ffffcc"/>
                </a:solidFill>
                <a:latin typeface="隶书"/>
                <a:ea typeface="隶书"/>
              </a:rPr>
              <a:t>数据库简明教程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" name="gif318" descr=""/>
          <p:cNvPicPr/>
          <p:nvPr/>
        </p:nvPicPr>
        <p:blipFill>
          <a:blip r:embed="rId3"/>
          <a:stretch/>
        </p:blipFill>
        <p:spPr>
          <a:xfrm>
            <a:off x="0" y="6058080"/>
            <a:ext cx="9144000" cy="7999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699160" y="-38160"/>
            <a:ext cx="34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隶书"/>
                <a:ea typeface="隶书"/>
              </a:rPr>
              <a:t>主编：李存斌 （教授）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6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4E74-6750-4066-A6D7-02C081F39312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20070;&#21517;&#12289;&#20869;&#23481;&#31616;&#20171;&#21644;&#21069;&#35328;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31532;8&#31456;%20%20%20%20SQL%20Server&#25968;&#25454;&#22797;&#21046;.ppt#2. 8.1   &#22797;&#21046;&#27010;&#36848;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%20SQL%20Server%20&#20851;&#31995;&#25968;&#25454;&#24211;&#31616;&#20171;.ppt#3. 1.1   SQL Server &#29305;&#28857;" TargetMode="External"/><Relationship Id="rId2" Type="http://schemas.openxmlformats.org/officeDocument/2006/relationships/hyperlink" Target="file:///&#31532;1&#31456;%20%20%20SQL%20Server%20&#20851;&#31995;&#25968;&#25454;&#24211;&#31616;&#20171;.ppt#3. 1.1   SQL Server &#29305;&#28857;" TargetMode="External"/><Relationship Id="rId3" Type="http://schemas.openxmlformats.org/officeDocument/2006/relationships/hyperlink" Target="file:///&#31532;1&#31456;%20%20%20SQL%20Server%20&#20851;&#31995;&#25968;&#25454;&#24211;&#31616;&#20171;.ppt#3. 1.1   SQL Server &#29305;&#28857;" TargetMode="External"/><Relationship Id="rId4" Type="http://schemas.openxmlformats.org/officeDocument/2006/relationships/hyperlink" Target="file:///&#31532;1&#31456;%20%20%20SQL%20Server%20&#20851;&#31995;&#25968;&#25454;&#24211;&#31616;&#20171;.ppt#6. 1.2   SQL Server&#30340;&#23433;&#35013;&#21644;&#37197;&#32622;" TargetMode="External"/><Relationship Id="rId5" Type="http://schemas.openxmlformats.org/officeDocument/2006/relationships/hyperlink" Target="file:///&#31532;1&#31456;%20%20%20SQL%20Server%20&#20851;&#31995;&#25968;&#25454;&#24211;&#31616;&#20171;.ppt#6. 1.2   SQL Server&#30340;&#23433;&#35013;&#21644;&#37197;&#32622;" TargetMode="External"/><Relationship Id="rId6" Type="http://schemas.openxmlformats.org/officeDocument/2006/relationships/hyperlink" Target="file:///&#31532;1&#31456;%20%20%20SQL%20Server%20&#20851;&#31995;&#25968;&#25454;&#24211;&#31616;&#20171;.ppt#6. 1.2   SQL Server&#30340;&#23433;&#35013;&#21644;&#37197;&#32622;" TargetMode="External"/><Relationship Id="rId7" Type="http://schemas.openxmlformats.org/officeDocument/2006/relationships/hyperlink" Target="file:///&#31532;1&#31456;%20%20%20SQL%20Server%20&#20851;&#31995;&#25968;&#25454;&#24211;&#31616;&#20171;.ppt#18. 1.3   SQL Server &#24037;&#20855;&#21644;&#23454;&#29992;&#31243;&#24207;" TargetMode="External"/><Relationship Id="rId8" Type="http://schemas.openxmlformats.org/officeDocument/2006/relationships/hyperlink" Target="file:///&#31532;1&#31456;%20%20%20SQL%20Server%20&#20851;&#31995;&#25968;&#25454;&#24211;&#31616;&#20171;.ppt#18. 1.3   SQL Server &#24037;&#20855;&#21644;&#23454;&#29992;&#31243;&#24207;" TargetMode="External"/><Relationship Id="rId9" Type="http://schemas.openxmlformats.org/officeDocument/2006/relationships/hyperlink" Target="file:///&#31532;1&#31456;%20%20%20SQL%20Server%20&#20851;&#31995;&#25968;&#25454;&#24211;&#31616;&#20171;.ppt#18. 1.3   SQL Server &#24037;&#20855;&#21644;&#23454;&#29992;&#31243;&#24207;" TargetMode="Externa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1532;2&#31456;%20%20%20Transact-SQL&#35821;&#35328;.ppt#3. 2.1  &#25968;&#25454;&#23450;&#20041;&#35821;&#35328;&#65288;DDL&#65289;" TargetMode="External"/><Relationship Id="rId2" Type="http://schemas.openxmlformats.org/officeDocument/2006/relationships/hyperlink" Target="file:///&#31532;2&#31456;%20%20%20Transact-SQL&#35821;&#35328;.ppt#3. 2.1  &#25968;&#25454;&#23450;&#20041;&#35821;&#35328;&#65288;DDL&#65289;" TargetMode="External"/><Relationship Id="rId3" Type="http://schemas.openxmlformats.org/officeDocument/2006/relationships/hyperlink" Target="file:///&#31532;2&#31456;%20%20%20Transact-SQL&#35821;&#35328;.ppt#7. 2.2  &#25968;&#25454;&#25805;&#32437;&#35821;&#35328;&#65288;DML&#65289;" TargetMode="External"/><Relationship Id="rId4" Type="http://schemas.openxmlformats.org/officeDocument/2006/relationships/hyperlink" Target="file:///&#31532;2&#31456;%20%20%20Transact-SQL&#35821;&#35328;.ppt#7. 2.2  &#25968;&#25454;&#25805;&#32437;&#35821;&#35328;&#65288;DML&#65289;" TargetMode="External"/><Relationship Id="rId5" Type="http://schemas.openxmlformats.org/officeDocument/2006/relationships/hyperlink" Target="file:///&#31532;2&#31456;%20%20%20Transact-SQL&#35821;&#35328;.ppt#7. 2.2  &#25968;&#25454;&#25805;&#32437;&#35821;&#35328;&#65288;DML&#65289;" TargetMode="External"/><Relationship Id="rId6" Type="http://schemas.openxmlformats.org/officeDocument/2006/relationships/hyperlink" Target="file:///&#31532;2&#31456;%20%20%20Transact-SQL&#35821;&#35328;.ppt#20. 2.3  &#25968;&#25454;&#25511;&#21046;&#35821;&#35328;&#65288;DCL&#65289;" TargetMode="External"/><Relationship Id="rId7" Type="http://schemas.openxmlformats.org/officeDocument/2006/relationships/hyperlink" Target="file:///&#31532;2&#31456;%20%20%20Transact-SQL&#35821;&#35328;.ppt#20. 2.3  &#25968;&#25454;&#25511;&#21046;&#35821;&#35328;&#65288;DCL&#65289;" TargetMode="External"/><Relationship Id="rId8" Type="http://schemas.openxmlformats.org/officeDocument/2006/relationships/hyperlink" Target="file:///&#31532;2&#31456;%20%20%20Transact-SQL&#35821;&#35328;.ppt#20. 2.3  &#25968;&#25454;&#25511;&#21046;&#35821;&#35328;&#65288;DCL&#65289;" TargetMode="External"/><Relationship Id="rId9" Type="http://schemas.openxmlformats.org/officeDocument/2006/relationships/hyperlink" Target="file:///&#31532;2&#31456;%20%20%20Transact-SQL&#35821;&#35328;.ppt#27. 2.4  &#31995;&#32479;&#23384;&#20648;&#36807;&#31243;" TargetMode="External"/><Relationship Id="rId10" Type="http://schemas.openxmlformats.org/officeDocument/2006/relationships/hyperlink" Target="file:///&#31532;2&#31456;%20%20%20Transact-SQL&#35821;&#35328;.ppt#27. 2.4  &#31995;&#32479;&#23384;&#20648;&#36807;&#31243;" TargetMode="External"/><Relationship Id="rId11" Type="http://schemas.openxmlformats.org/officeDocument/2006/relationships/hyperlink" Target="file:///&#31532;2&#31456;%20%20%20Transact-SQL&#35821;&#35328;.ppt#30. 2.5  &#20854;&#23427;&#35821;&#35328;&#20803;&#32032;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1532;3&#31456;%20%20%20&#26381;&#21153;&#22120;&#31649;&#29702;.ppt#2. 3.1   &#21019;&#24314;&#26381;&#21153;&#22120;&#32452;" TargetMode="External"/><Relationship Id="rId2" Type="http://schemas.openxmlformats.org/officeDocument/2006/relationships/hyperlink" Target="file:///&#31532;3&#31456;%20%20%20&#26381;&#21153;&#22120;&#31649;&#29702;.ppt#2. 3.1   &#21019;&#24314;&#26381;&#21153;&#22120;&#32452;" TargetMode="External"/><Relationship Id="rId3" Type="http://schemas.openxmlformats.org/officeDocument/2006/relationships/hyperlink" Target="file:///&#31532;3&#31456;%20%20%20&#26381;&#21153;&#22120;&#31649;&#29702;.ppt#5. 3.2   &#26381;&#21153;&#22120;&#27880;&#20876;" TargetMode="External"/><Relationship Id="rId4" Type="http://schemas.openxmlformats.org/officeDocument/2006/relationships/hyperlink" Target="file:///&#31532;3&#31456;%20%20%20&#26381;&#21153;&#22120;&#31649;&#29702;.ppt#17. 3.3   &#26381;&#21153;&#22120;&#21551;&#21160;&#12289;&#26242;&#20572;&#21644;&#20572;&#27490;" TargetMode="External"/><Relationship Id="rId5" Type="http://schemas.openxmlformats.org/officeDocument/2006/relationships/hyperlink" Target="file:///&#31532;3&#31456;%20%20%20&#26381;&#21153;&#22120;&#31649;&#29702;.ppt#17. 3.3   &#26381;&#21153;&#22120;&#21551;&#21160;&#12289;&#26242;&#20572;&#21644;&#20572;&#27490;" TargetMode="External"/><Relationship Id="rId6" Type="http://schemas.openxmlformats.org/officeDocument/2006/relationships/hyperlink" Target="file:///&#31532;3&#31456;%20%20%20&#26381;&#21153;&#22120;&#31649;&#29702;.ppt#19. 3.4   &#26381;&#21153;&#22120;&#36830;&#25509;&#19982;&#26029;&#24320;" TargetMode="External"/><Relationship Id="rId7" Type="http://schemas.openxmlformats.org/officeDocument/2006/relationships/hyperlink" Target="file:///&#31532;3&#31456;%20%20%20&#26381;&#21153;&#22120;&#31649;&#29702;.ppt#19. 3.4   &#26381;&#21153;&#22120;&#36830;&#25509;&#19982;&#26029;&#24320;" TargetMode="External"/><Relationship Id="rId8" Type="http://schemas.openxmlformats.org/officeDocument/2006/relationships/hyperlink" Target="file:///&#31532;3&#31456;%20%20%20&#26381;&#21153;&#22120;&#31649;&#29702;.ppt#21. 3.5   &#26381;&#21153;&#22120;&#37197;&#32622;&#36873;&#39033;&#35774;&#32622;" TargetMode="External"/><Relationship Id="rId9" Type="http://schemas.openxmlformats.org/officeDocument/2006/relationships/hyperlink" Target="file:///&#31532;3&#31456;%20%20%20&#26381;&#21153;&#22120;&#31649;&#29702;.ppt#21. 3.5   &#26381;&#21153;&#22120;&#37197;&#32622;&#36873;&#39033;&#35774;&#32622;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1532;4&#31456;%20%20%20&#25968;&#25454;&#24211;&#31649;&#29702;.ppt#2. 4.1   &#25968;&#25454;&#24211;&#30340;&#23384;&#20648;&#32467;&#26500;" TargetMode="External"/><Relationship Id="rId2" Type="http://schemas.openxmlformats.org/officeDocument/2006/relationships/hyperlink" Target="file:///&#31532;4&#31456;%20%20%20&#25968;&#25454;&#24211;&#31649;&#29702;.ppt#6. 4.2   &#21019;&#24314;&#12289;&#20462;&#25913;&#21644;&#21024;&#38500;&#25968;&#25454;&#24211;" TargetMode="External"/><Relationship Id="rId3" Type="http://schemas.openxmlformats.org/officeDocument/2006/relationships/hyperlink" Target="file:///&#31532;4&#31456;%20%20%20&#25968;&#25454;&#24211;&#31649;&#29702;.ppt#6. 4.2   &#21019;&#24314;&#12289;&#20462;&#25913;&#21644;&#21024;&#38500;&#25968;&#25454;&#24211;" TargetMode="External"/><Relationship Id="rId4" Type="http://schemas.openxmlformats.org/officeDocument/2006/relationships/hyperlink" Target="file:///&#31532;4&#31456;%20%20%20&#25968;&#25454;&#24211;&#31649;&#29702;.ppt#34. 4.3   &#25968;&#25454;&#24211;&#22791;&#20221;" TargetMode="External"/><Relationship Id="rId5" Type="http://schemas.openxmlformats.org/officeDocument/2006/relationships/hyperlink" Target="file:///&#31532;4&#31456;%20%20%20&#25968;&#25454;&#24211;&#31649;&#29702;.ppt#53. 4.4   &#24674;&#22797;&#25968;&#25454;&#24211;" TargetMode="External"/><Relationship Id="rId6" Type="http://schemas.openxmlformats.org/officeDocument/2006/relationships/hyperlink" Target="file:///&#31532;4&#31456;%20%20%20&#25968;&#25454;&#24211;&#31649;&#29702;.ppt#53. 4.4   &#24674;&#22797;&#25968;&#25454;&#24211;" TargetMode="External"/><Relationship Id="rId7" Type="http://schemas.openxmlformats.org/officeDocument/2006/relationships/hyperlink" Target="file:///&#31532;4&#31456;%20%20%20&#25968;&#25454;&#24211;&#31649;&#29702;.ppt#59. 4.5   &#25968;&#25454;&#24211;&#30340;&#32500;&#25252;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31532;5&#31456;%20%20%20%20&#25968;&#25454;&#24211;&#23545;&#35937;&#30340;&#25805;&#20316;.ppt#2. 5.1   &#25968;&#25454;&#31867;&#22411;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&#31532;5&#31456;%20%20%20%20&#25968;&#25454;&#24211;&#23545;&#35937;&#30340;&#25805;&#20316;.ppt#5. 2. &#28014;&#28857;&#25968;&#25454;&#31867;&#22411;" TargetMode="External"/><Relationship Id="rId5" Type="http://schemas.openxmlformats.org/officeDocument/2006/relationships/image" Target="../media/image4.png"/><Relationship Id="rId6" Type="http://schemas.openxmlformats.org/officeDocument/2006/relationships/hyperlink" Target="file:///&#31532;5&#31456;%20%20%20%20&#25968;&#25454;&#24211;&#23545;&#35937;&#30340;&#25805;&#20316;.ppt#45. 5.3   &#35270;&#22270;&#25805;&#20316;" TargetMode="External"/><Relationship Id="rId7" Type="http://schemas.openxmlformats.org/officeDocument/2006/relationships/image" Target="../media/image4.png"/><Relationship Id="rId8" Type="http://schemas.openxmlformats.org/officeDocument/2006/relationships/hyperlink" Target="file:///&#31532;5&#31456;%20%20%20%20&#25968;&#25454;&#24211;&#23545;&#35937;&#30340;&#25805;&#20316;.ppt#82. 5.4   &#32034;&#24341;&#25805;&#20316;" TargetMode="External"/><Relationship Id="rId9" Type="http://schemas.openxmlformats.org/officeDocument/2006/relationships/image" Target="../media/image4.png"/><Relationship Id="rId10" Type="http://schemas.openxmlformats.org/officeDocument/2006/relationships/hyperlink" Target="file:///&#31532;5&#31456;%20%20%20%20&#25968;&#25454;&#24211;&#23545;&#35937;&#30340;&#25805;&#20316;.ppt#116. 5.5   &#23384;&#20648;&#36807;&#31243;" TargetMode="External"/><Relationship Id="rId11" Type="http://schemas.openxmlformats.org/officeDocument/2006/relationships/image" Target="../media/image4.png"/><Relationship Id="rId12" Type="http://schemas.openxmlformats.org/officeDocument/2006/relationships/hyperlink" Target="file:///&#31532;5&#31456;%20%20%20%20&#25968;&#25454;&#24211;&#23545;&#35937;&#30340;&#25805;&#20316;.ppt#145. 5.6   &#35302;&#21457;&#22120;" TargetMode="External"/><Relationship Id="rId13" Type="http://schemas.openxmlformats.org/officeDocument/2006/relationships/image" Target="../media/image4.png"/><Relationship Id="rId14" Type="http://schemas.openxmlformats.org/officeDocument/2006/relationships/hyperlink" Target="file:///&#31532;5&#31456;%20%20%20%20&#25968;&#25454;&#24211;&#23545;&#35937;&#30340;&#25805;&#20316;.ppt#164. 5.7    &#22270;    &#34920;" TargetMode="External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31532;6&#31456;%20%20%20SQL%20Server&#26435;&#38480;&#31649;&#29702;.ppt#2. 6.1   SQL Server&#26435;&#38480;&#31649;&#29702;&#31574;&#30053;" TargetMode="External"/><Relationship Id="rId2" Type="http://schemas.openxmlformats.org/officeDocument/2006/relationships/hyperlink" Target="file:///&#31532;6&#31456;%20%20%20SQL%20Server&#26435;&#38480;&#31649;&#29702;.ppt#2. 6.1   SQL Server&#26435;&#38480;&#31649;&#29702;&#31574;&#30053;" TargetMode="External"/><Relationship Id="rId3" Type="http://schemas.openxmlformats.org/officeDocument/2006/relationships/hyperlink" Target="file:///&#31532;6&#31456;%20%20%20SQL%20Server&#26435;&#38480;&#31649;&#29702;.ppt#2. 6.1   SQL Server&#26435;&#38480;&#31649;&#29702;&#31574;&#30053;" TargetMode="External"/><Relationship Id="rId4" Type="http://schemas.openxmlformats.org/officeDocument/2006/relationships/hyperlink" Target="file:///&#31532;6&#31456;%20%20%20SQL%20Server&#26435;&#38480;&#31649;&#29702;.ppt#8. 6.2   &#29992;&#25143;&#26435;&#38480;&#31649;&#29702;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31532;7&#31456;%20%20%20SQL%20Server&#20195;&#29702;&#26381;&#21153;.ppt#3. 7.1   SQL Server&#20195;&#29702;&#26381;&#21153;&#37197;&#32622;" TargetMode="External"/><Relationship Id="rId2" Type="http://schemas.openxmlformats.org/officeDocument/2006/relationships/hyperlink" Target="file:///&#31532;7&#31456;%20%20%20SQL%20Server&#20195;&#29702;&#26381;&#21153;.ppt#3. 7.1   SQL Server&#20195;&#29702;&#26381;&#21153;&#37197;&#32622;" TargetMode="External"/><Relationship Id="rId3" Type="http://schemas.openxmlformats.org/officeDocument/2006/relationships/hyperlink" Target="file:///&#31532;7&#31456;%20%20%20SQL%20Server&#20195;&#29702;&#26381;&#21153;.ppt#3. 7.1   SQL Server&#20195;&#29702;&#26381;&#21153;&#37197;&#32622;" TargetMode="External"/><Relationship Id="rId4" Type="http://schemas.openxmlformats.org/officeDocument/2006/relationships/hyperlink" Target="file:///&#31532;7&#31456;%20%20%20SQL%20Server&#20195;&#29702;&#26381;&#21153;.ppt#9.  7.2   &#23450;&#20041;&#25805;&#20316;&#21592;" TargetMode="External"/><Relationship Id="rId5" Type="http://schemas.openxmlformats.org/officeDocument/2006/relationships/hyperlink" Target="file:///&#31532;7&#31456;%20%20%20SQL%20Server&#20195;&#29702;&#26381;&#21153;.ppt#11. 7.3   &#20316;&#19994;&#31649;&#29702;" TargetMode="External"/><Relationship Id="rId6" Type="http://schemas.openxmlformats.org/officeDocument/2006/relationships/hyperlink" Target="file:///&#31532;7&#31456;%20%20%20SQL%20Server&#20195;&#29702;&#26381;&#21153;.ppt#25. 7.4   &#35686;&#25253;&#31649;&#29702;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76520" y="1752480"/>
            <a:ext cx="6340320" cy="36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6002b"/>
                </a:solidFill>
                <a:latin typeface="Arial"/>
              </a:rPr>
              <a:t>SQL Server 2000</a:t>
            </a:r>
            <a:r>
              <a:rPr b="1" lang="zh-CN" sz="3600" spc="-1" strike="noStrike">
                <a:solidFill>
                  <a:srgbClr val="56002b"/>
                </a:solidFill>
                <a:latin typeface="Arial"/>
              </a:rPr>
              <a:t>数据库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9c004e"/>
                </a:solidFill>
                <a:uFillTx/>
                <a:latin typeface="Arial"/>
                <a:ea typeface="华文隶书"/>
                <a:hlinkClick r:id="rId1"/>
              </a:rPr>
              <a:t>简明教程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6002b"/>
                </a:solidFill>
                <a:latin typeface="Times New Roman"/>
              </a:rPr>
              <a:t>李存斌  主编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620120" y="480060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8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 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SQL Server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数据复制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33720" y="18288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1"/>
              </a:rPr>
              <a:t>8.1   复制概述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2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配置服务器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3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创建发布出版物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4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订购出版物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5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</a:rPr>
              <a:t>管理复制选项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6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</a:rPr>
              <a:t>复制代理程序和监视器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9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SQL Server 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数据转换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2438280"/>
            <a:ext cx="5715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9.1   </a:t>
            </a:r>
            <a:r>
              <a:rPr b="1" lang="zh-CN" sz="3000" spc="-1" strike="noStrike">
                <a:solidFill>
                  <a:srgbClr val="56002b"/>
                </a:solidFill>
                <a:latin typeface="Times New Roman"/>
              </a:rPr>
              <a:t>数据的导入和导出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9.2   </a:t>
            </a:r>
            <a:r>
              <a:rPr b="1" lang="zh-CN" sz="3000" spc="-1" strike="noStrike">
                <a:solidFill>
                  <a:srgbClr val="56002b"/>
                </a:solidFill>
                <a:latin typeface="Times New Roman"/>
              </a:rPr>
              <a:t>使用</a:t>
            </a:r>
            <a:r>
              <a:rPr b="1" lang="zh-CN" sz="30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DTS</a:t>
            </a:r>
            <a:r>
              <a:rPr b="1" lang="zh-CN" sz="3000" spc="-1" strike="noStrike">
                <a:solidFill>
                  <a:srgbClr val="56002b"/>
                </a:solidFill>
                <a:latin typeface="Times New Roman"/>
              </a:rPr>
              <a:t>设计器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0440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4038480" cy="2593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590920"/>
            <a:ext cx="222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0011"/>
                </a:solidFill>
                <a:latin typeface="Times New Roman"/>
                <a:ea typeface="华文新魏"/>
              </a:rPr>
              <a:t>欢迎您使用</a:t>
            </a:r>
            <a:r>
              <a:rPr b="1" lang="zh-CN" sz="2800" spc="-1" strike="noStrike">
                <a:solidFill>
                  <a:srgbClr val="220011"/>
                </a:solidFill>
                <a:latin typeface="隶书"/>
                <a:ea typeface="隶书"/>
              </a:rPr>
              <a:t>SQL Server 2000</a:t>
            </a:r>
            <a:r>
              <a:rPr b="1" lang="zh-CN" sz="2800" spc="-1" strike="noStrike">
                <a:solidFill>
                  <a:srgbClr val="220011"/>
                </a:solidFill>
                <a:latin typeface="隶书"/>
                <a:ea typeface="隶书"/>
              </a:rPr>
              <a:t>数据库简明教程演示文稿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前言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696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一、本教材电子教案（演示文稿）采用 </a:t>
            </a: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PowerPoint 2000</a:t>
            </a: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制作，用户可根据教学需求随意修改，使用非常方便。</a:t>
            </a:r>
            <a:endParaRPr b="1" lang="en-US" sz="24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124080"/>
            <a:ext cx="784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二、本电子教案以鲜艳的色彩，明亮的格调为主旋律，加上不同风格的动画，新颖别致的界面，给人一种朝气蓬勃、耳目一新的感觉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648320"/>
            <a:ext cx="7086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三、本电子教案由华北电力大学（北京）工商管理学院教授李存斌指导，李武教师制作完成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7543800" y="4876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57150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章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SQL Server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关系数据库简介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2196720"/>
            <a:ext cx="647712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1.1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SQL Server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特点 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1.2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SQL Server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6"/>
              </a:rPr>
              <a:t>的安装和配置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7"/>
              </a:rPr>
              <a:t>1.3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8"/>
              </a:rPr>
              <a:t>SQL Server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9"/>
              </a:rPr>
              <a:t>工具和实用程序 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章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Transact-SQL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语言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2.1  数据定义语言（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DDL）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2.2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数据操纵语言（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DML）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6"/>
              </a:rPr>
              <a:t>2.3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7"/>
              </a:rPr>
              <a:t>数据控制语言（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8"/>
              </a:rPr>
              <a:t>DCL）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9"/>
              </a:rPr>
              <a:t>2.4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0"/>
              </a:rPr>
              <a:t>系统存储过程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1"/>
              </a:rPr>
              <a:t>2.5  其它语言元素 </a:t>
            </a:r>
            <a:br>
              <a:rPr sz="2800"/>
            </a:b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章   服务器管理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89280" y="2249280"/>
            <a:ext cx="5533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1"/>
              </a:rPr>
              <a:t>3.1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2"/>
              </a:rPr>
              <a:t>创建服务器组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3.2   服务器注册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4"/>
              </a:rPr>
              <a:t>3.3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5"/>
              </a:rPr>
              <a:t>服务器启动、暂停和停止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6"/>
              </a:rPr>
              <a:t>3.4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7"/>
              </a:rPr>
              <a:t>服务器连接与断开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8"/>
              </a:rPr>
              <a:t>3.5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9"/>
              </a:rPr>
              <a:t>服务器配置选项设置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4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数据库管理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614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4.1   数据库的存储结构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2"/>
              </a:rPr>
              <a:t>4.2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3"/>
              </a:rPr>
              <a:t>创建、修改和删除数据库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4.3   数据库备份 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5"/>
              </a:rPr>
              <a:t>4.4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6"/>
              </a:rPr>
              <a:t>恢复数据库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7"/>
              </a:rPr>
              <a:t>4.5   数据库的维护 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5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 数据库对象的操作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75248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5.1   数据类型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5.2   表操作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6"/>
              </a:rPr>
              <a:t>5.3   视图操作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8"/>
              </a:rPr>
              <a:t>5.4   索引操作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10"/>
              </a:rPr>
              <a:t>5.5   存储过程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12"/>
              </a:rPr>
              <a:t>5.6   触发器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14"/>
              </a:rPr>
              <a:t>5.7    图    表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章   </a:t>
            </a: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SQL Server</a:t>
            </a: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权限管理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1080" y="2286000"/>
            <a:ext cx="6019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隶书"/>
                <a:hlinkClick r:id="rId1"/>
              </a:rPr>
              <a:t>6.1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隶书"/>
                <a:hlinkClick r:id="rId2"/>
              </a:rPr>
              <a:t>SQL Server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隶书"/>
                <a:hlinkClick r:id="rId3"/>
              </a:rPr>
              <a:t>权限管理策略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隶书"/>
                <a:hlinkClick r:id="rId4"/>
              </a:rPr>
              <a:t>6.2   用户权限管理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7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SQL Server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代理服务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57040" y="2133360"/>
            <a:ext cx="5715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1"/>
              </a:rPr>
              <a:t>7.1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2"/>
              </a:rPr>
              <a:t>SQL Server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3"/>
              </a:rPr>
              <a:t>代理服务配置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4"/>
              </a:rPr>
              <a:t>7.2   定义操作员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5"/>
              </a:rPr>
              <a:t>7.3   作业管理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6"/>
              </a:rPr>
              <a:t>7.4   警报管理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13:14:35Z</dcterms:created>
  <dc:creator>haier</dc:creator>
  <dc:description/>
  <dc:language>en-US</dc:language>
  <cp:lastModifiedBy>lcb</cp:lastModifiedBy>
  <dcterms:modified xsi:type="dcterms:W3CDTF">2001-08-19T07:23:25Z</dcterms:modified>
  <cp:revision>30</cp:revision>
  <dc:subject/>
  <dc:title>PowerPoint 演示文稿</dc:title>
</cp:coreProperties>
</file>